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A6CC-E258-4F8F-8811-71DDBDAF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6596-FE0C-4B54-819F-CAB57A5E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04784-4133-48F5-B077-B82AE315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6C93-5D02-487D-BDD3-1D62313C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7F67-EE1F-4FE2-A5FB-264F18D2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0A61-AE94-4F07-9801-36382DB9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2359-7223-4650-975A-EC657347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1CBC-91E9-419F-BB12-ED9099A2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86A3-B476-47F2-AE9D-1E760040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FAAB-F126-49BC-B7DE-E54B078C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FF79-378E-49BD-BFA3-C0AD1EF7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E1EA-13AC-4F47-8843-E26F36A3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ACFC-48C2-4779-95A1-7B356F52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D559-7887-4DE3-8F6B-13229635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0A3A-E69C-434E-8444-66991A72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9AF0-07CF-453C-8FC2-9BDA0B8D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B0D3-CB61-434F-8DAC-3EC2225E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C9EDE-0170-4794-B9FA-0F9BC9CD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1888-E76A-4B8D-8B2C-75A7EBD6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5D510-655E-41CF-8893-032EFD31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2B25-8864-4FC4-9E8A-CFCC5E84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E1A0-C45F-413C-B29B-D542C30F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F791-7A9A-4668-8DCE-305E384A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90CE-8174-48B7-AD0F-E83E2BC3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CFF1-99D8-4B38-B480-0A261C95A2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866C-512B-4DDE-8084-7088C1D3B8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Dark Reac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alvin Cy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ternative Pathway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ts that fix carbon exclusively through the Calvin Cycle-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C3 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aramond"/>
              </a:rPr>
              <a:t>Because of the 3-C  compound PGA, that is initially form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 Rice, wheat, oats, and soybe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3657600" cy="2590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543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ternative Pathway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ts in </a:t>
            </a:r>
            <a:r>
              <a:rPr b="0" lang="en-US" sz="3200" spc="-1" strike="noStrike">
                <a:solidFill>
                  <a:srgbClr val="ff0066"/>
                </a:solidFill>
                <a:latin typeface="Garamond"/>
              </a:rPr>
              <a:t>hot, dr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limates use alternative pathw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t lose 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the air-through small pores called stomata (underside of lea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be partially closed to prevent water lo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mata are the major passageways through which 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CO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ters and 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when stomata are closed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levels 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decrea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levels 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increas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piration-Evaporation of water from lea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te of transpiration related to the degree of stomata opening and evaporation demand of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419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4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a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x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to 4-C compoun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tially close stomata during hottest part of the 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zymes fix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to 4-C compounds and transport them to cells where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released and enters calvin cycle ( lose ½ as much H2O as C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19404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rn, sugar cane, crabgra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572000" y="1386000"/>
            <a:ext cx="4572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M Pathway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en stomata at night; close during the d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ke in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t night and fix into compoun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lease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uring the day and enter the Calvin cyc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 cacti, pineapp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87692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6" descr="leafstru.gif"/>
          <p:cNvPicPr/>
          <p:nvPr/>
        </p:nvPicPr>
        <p:blipFill>
          <a:blip r:embed="rId1"/>
          <a:stretch/>
        </p:blipFill>
        <p:spPr>
          <a:xfrm>
            <a:off x="1087560" y="609480"/>
            <a:ext cx="70102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te of Photosynth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 Intens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e rate of photosynthesis, then levels off ( max. rate of photosynthesi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er intensity, excites more electrons in cholorphy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@ same intensity, all available electrons are exci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mount CO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ount of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es rate of photosynthesis to a point, then levels of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3" descr="graph2.gif"/>
          <p:cNvPicPr/>
          <p:nvPr/>
        </p:nvPicPr>
        <p:blipFill>
          <a:blip r:embed="rId1"/>
          <a:stretch/>
        </p:blipFill>
        <p:spPr>
          <a:xfrm>
            <a:off x="1371600" y="3505320"/>
            <a:ext cx="64771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mperatur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er temperature accelerates the chemical rxns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aks @ certain temp. because the enzymes becomes ineffective and unst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omata closes-limiting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loss and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try into the lea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3" descr="Focus200307.jpg"/>
          <p:cNvPicPr/>
          <p:nvPr/>
        </p:nvPicPr>
        <p:blipFill>
          <a:blip r:embed="rId1"/>
          <a:stretch/>
        </p:blipFill>
        <p:spPr>
          <a:xfrm>
            <a:off x="4572000" y="4572000"/>
            <a:ext cx="4343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entration of O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e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ill decrease the rate of photosynthesis and increase the rate of photorespi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bisco will bind with oxyg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ll send PGA into respiration, instead of finishing photosynthes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reasing amount of organic compound produc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6CO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+6H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        C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1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+6O</a:t>
            </a:r>
            <a:r>
              <a:rPr b="1" lang="en-US" sz="4400" spc="-1" strike="noStrike" baseline="-25000">
                <a:solidFill>
                  <a:srgbClr val="e5e5ff"/>
                </a:solidFill>
                <a:latin typeface="Garamond"/>
              </a:rPr>
              <a:t>2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dark reactions use the energy stored in ATP and NADPH the light reac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bon atoms from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bonded, or fixed, into organic compounds = carbon fix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OCCURS IN THE STRO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Right Arrow 5"/>
          <p:cNvSpPr/>
          <p:nvPr/>
        </p:nvSpPr>
        <p:spPr>
          <a:xfrm>
            <a:off x="3962520" y="609480"/>
            <a:ext cx="82548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Frame 8"/>
          <p:cNvSpPr/>
          <p:nvPr/>
        </p:nvSpPr>
        <p:spPr>
          <a:xfrm>
            <a:off x="457200" y="380880"/>
            <a:ext cx="1676520" cy="114300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Frame 9"/>
          <p:cNvSpPr/>
          <p:nvPr/>
        </p:nvSpPr>
        <p:spPr>
          <a:xfrm>
            <a:off x="4800600" y="457200"/>
            <a:ext cx="2438280" cy="91440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950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P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enzyme (rubisco), combines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ith a 5-carbon sugar RuB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roduct, 6-C sugar, immediately splits into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, -3C molecules (PG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GA– Phosphoglyceric Ac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9" descr="campbell_10"/>
          <p:cNvPicPr/>
          <p:nvPr/>
        </p:nvPicPr>
        <p:blipFill>
          <a:blip r:embed="rId1"/>
          <a:stretch/>
        </p:blipFill>
        <p:spPr>
          <a:xfrm>
            <a:off x="4648320" y="1676520"/>
            <a:ext cx="4029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p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GA is converted to another 3- Carbon molecule PGAL in a 2 part proces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PGA receives a P group from AT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sulting compound receives a proton from NADPH and releases the P, producing PG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DP &amp; NADP+ return to light rxn., to make ATP and NADPH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9" descr="campbell_10"/>
          <p:cNvPicPr/>
          <p:nvPr/>
        </p:nvPicPr>
        <p:blipFill>
          <a:blip r:embed="rId1"/>
          <a:stretch/>
        </p:blipFill>
        <p:spPr>
          <a:xfrm>
            <a:off x="4724280" y="1600200"/>
            <a:ext cx="4029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ep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of the PGAL is converted back to RuB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quires a P from another AT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PGAL leave and used by plants create organic compou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9" descr="campbell_10"/>
          <p:cNvPicPr/>
          <p:nvPr/>
        </p:nvPicPr>
        <p:blipFill>
          <a:blip r:embed="rId1"/>
          <a:stretch/>
        </p:blipFill>
        <p:spPr>
          <a:xfrm>
            <a:off x="4572000" y="1371600"/>
            <a:ext cx="4334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Sheet for Photosynth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much ATP &amp; NADH are required to make 1 molecule of PGA from carbon dioxid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turn fixes one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GAL is a 3-C molecule (takes 3 turns to make each molecul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turn of the cycl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ATP ( 2 in step 2 &amp; 1 in step 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NADPH  (step 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50% made to fuel cell Respi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of the PGAL is used to mak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amino acids, lipi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carbohydrates lik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Garamond"/>
              </a:rPr>
              <a:t>glucose and fructo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glycogen,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tarch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ellulo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9500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0:15:31Z</dcterms:created>
  <dc:creator>NPSD</dc:creator>
  <dc:description/>
  <dc:language>en-US</dc:language>
  <cp:lastModifiedBy>NPSD</cp:lastModifiedBy>
  <dcterms:modified xsi:type="dcterms:W3CDTF">2008-12-08T15:05:29Z</dcterms:modified>
  <cp:revision>12</cp:revision>
  <dc:subject/>
  <dc:title>Dark Reaction</dc:title>
</cp:coreProperties>
</file>